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EF4F-3887-42A9-8DE8-EAFD74F88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CEE2-BFBD-4033-8885-BC0FB82DC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FB55-4782-415E-932B-3079788FA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3333-BD37-4F49-A637-9DAED04419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BF71-72F0-4724-93DD-2035B0F098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2BA7-E91F-41E1-B646-6E16BE080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A1B9-6FB1-466C-82AB-5E4245716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408F-CBC8-41AF-9FAE-0F84432FF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7EA5-08A2-4790-921F-1266F2C18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7126-8430-4300-979A-9D457DA97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9747-4FC6-4823-8A5D-88F348C11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6A86-1284-4597-984A-8E0658210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46D2-8686-4675-A7C2-82FA9C6691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6143-A7C6-446C-BC10-68B8BC2C67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amp Journ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09120" y="1599840"/>
            <a:ext cx="5257800" cy="3429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the challenges to providing feedback to students in the mo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E10F-E4CE-4755-BB52-1AF92F3EB6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freetechjournal.com/blog/wp-content/uploads/2010/12/press-journal.gif"/>
          <p:cNvPicPr/>
          <p:nvPr/>
        </p:nvPicPr>
        <p:blipFill>
          <a:blip r:embed="rId1"/>
          <a:stretch/>
        </p:blipFill>
        <p:spPr>
          <a:xfrm>
            <a:off x="6019920" y="1600200"/>
            <a:ext cx="2514600" cy="30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Proportional Mosaic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large the little square you were given onto the larger squ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e the larger square onto the corresponding number on the chart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472D-E2C6-417E-8D23-EBD76215F7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B662-FD83-4A70-9567-B7B93ADE01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reakout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ant to explore the big ideas in Proportional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ant to explore how we can support students by providing feedback in the moment that supports their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5021-1566-4A6B-9F3D-DA06B4BC8B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 Proportional Tas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B2A4-E108-4443-ACA5-D440C35054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6858000" cy="41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 Frayer Model for 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Frayer Model and share your responses with your table gro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3FD8-BCE2-4285-950E-1C5A908B77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ack to our tas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pair - Share your strategy for solving the problem with the rest of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ther pair – Think of what feedback you can prov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witch r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8AE0-F272-4CB4-80A1-9C74B5F063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types of responses do you anticip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6735-B964-447A-804C-3C76C1D4B7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the feedback you could provide the student. Write the feedback on a sticky note and paste on the student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he feedback from Sample 1 on its chart paper, Sample 2 on its chart paper, and so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6056-6949-4677-B6A2-EC762453A7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oving forw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can we scaffold the problem for struggling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can we add a challenge for students who have solved 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94F6-6464-4543-AFCE-2E7488614D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Paul Alves</cp:lastModifiedBy>
  <dcterms:modified xsi:type="dcterms:W3CDTF">2011-08-12T03:07:24Z</dcterms:modified>
  <cp:revision>11</cp:revision>
  <dc:subject/>
  <dc:title>&lt;Title&gt;</dc:title>
</cp:coreProperties>
</file>